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A05-6C79-4999-8B7D-C48912F4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F4B-156E-4981-B2D4-9D484C5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FE3-3A6A-4396-85A0-F4CC2A37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EB6-89AE-4C8E-A900-2454BFC4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43E-AC72-4F93-B0E1-ACE110A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35E-C853-479E-8758-B3D8963B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0BE-32EA-46A8-BAAA-A2F7424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D85-6A1E-4AD3-A83D-1ECD498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527-8029-42C8-8FFA-8C479143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F29-5F55-4FAE-B10E-5BB88B7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87-1676-4FC4-926D-734354F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913-DBA2-402E-A8AC-A3ED402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B8A8-89C5-4840-904B-B75EAB9B2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&#1043;&#1083;&#1080;&#1085;&#1089;&#1082;&#1086;&#1081;.ppt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shablony-dlya-prezentaziy-11-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092960" y="114300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йди корн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1214280" y="2714760"/>
            <a:ext cx="1305000" cy="866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1214280" y="4000680"/>
            <a:ext cx="136224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6143760" y="2786040"/>
            <a:ext cx="1304640" cy="866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5"/>
          <a:stretch/>
        </p:blipFill>
        <p:spPr>
          <a:xfrm>
            <a:off x="6072120" y="4000680"/>
            <a:ext cx="136224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9" descr="s623309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8"/>
          <a:stretch/>
        </p:blipFill>
        <p:spPr>
          <a:xfrm>
            <a:off x="2857680" y="2714760"/>
            <a:ext cx="599760" cy="857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2857680" y="4214880"/>
            <a:ext cx="73332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10"/>
          <a:stretch/>
        </p:blipFill>
        <p:spPr>
          <a:xfrm>
            <a:off x="8001000" y="2786040"/>
            <a:ext cx="600120" cy="85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3" descr=""/>
          <p:cNvPicPr/>
          <p:nvPr/>
        </p:nvPicPr>
        <p:blipFill>
          <a:blip r:embed="rId11"/>
          <a:stretch/>
        </p:blipFill>
        <p:spPr>
          <a:xfrm>
            <a:off x="8001000" y="4000680"/>
            <a:ext cx="714240" cy="866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3"/>
          <p:cNvSpPr/>
          <p:nvPr/>
        </p:nvSpPr>
        <p:spPr>
          <a:xfrm>
            <a:off x="2857680" y="271476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4"/>
          <p:cNvSpPr/>
          <p:nvPr/>
        </p:nvSpPr>
        <p:spPr>
          <a:xfrm>
            <a:off x="2857680" y="400068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5"/>
          <p:cNvSpPr/>
          <p:nvPr/>
        </p:nvSpPr>
        <p:spPr>
          <a:xfrm>
            <a:off x="8001000" y="278604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6"/>
          <p:cNvSpPr/>
          <p:nvPr/>
        </p:nvSpPr>
        <p:spPr>
          <a:xfrm>
            <a:off x="8001000" y="400068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4:21Z</dcterms:created>
  <dc:creator>Admin</dc:creator>
  <dc:description/>
  <dc:language>en-US</dc:language>
  <cp:lastModifiedBy>Admin</cp:lastModifiedBy>
  <dcterms:modified xsi:type="dcterms:W3CDTF">2004-01-01T00:15:20Z</dcterms:modified>
  <cp:revision>2</cp:revision>
  <dc:subject/>
  <dc:title>Слайд 1</dc:title>
</cp:coreProperties>
</file>